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4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94920" y="4010760"/>
            <a:ext cx="7162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3495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65480" y="1980720"/>
            <a:ext cx="3495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4920" y="4010760"/>
            <a:ext cx="3495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65480" y="4010760"/>
            <a:ext cx="3495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230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16640" y="1980720"/>
            <a:ext cx="230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38720" y="1980720"/>
            <a:ext cx="230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94920" y="4010760"/>
            <a:ext cx="230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16640" y="4010760"/>
            <a:ext cx="230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38720" y="4010760"/>
            <a:ext cx="230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3495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65480" y="1980720"/>
            <a:ext cx="3495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9492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3495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65480" y="1980720"/>
            <a:ext cx="3495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94920" y="4010760"/>
            <a:ext cx="3495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3495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5480" y="1980720"/>
            <a:ext cx="3495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65480" y="4010760"/>
            <a:ext cx="3495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3495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5480" y="1980720"/>
            <a:ext cx="3495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010760"/>
            <a:ext cx="7162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125000"/>
              <a:buFont typeface="Time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125000"/>
              <a:buFont typeface="Time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125000"/>
              <a:buFont typeface="Time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anoscience.gatech.edu/zlwang/paper/2008/08_nat_1.pdf" TargetMode="External"/><Relationship Id="rId3" Type="http://schemas.openxmlformats.org/officeDocument/2006/relationships/hyperlink" Target="http://www.nanoscience.gatech.edu/zlwang/paper/2008/08_nat_1.pdf" TargetMode="External"/><Relationship Id="rId4" Type="http://schemas.openxmlformats.org/officeDocument/2006/relationships/hyperlink" Target="http://www.nanoscience.gatech.edu/zlwang/paper/2008/08_nat_1.pdf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hyperlink" Target="http://www.nanoscience.gatech.edu/zlwang/paper/2008/08_nat_1.pdf" TargetMode="External"/><Relationship Id="rId4" Type="http://schemas.openxmlformats.org/officeDocument/2006/relationships/hyperlink" Target="http://www.nanoscience.gatech.edu/zlwang/paper/2008/08_nat_1.pdf" TargetMode="External"/><Relationship Id="rId5" Type="http://schemas.openxmlformats.org/officeDocument/2006/relationships/hyperlink" Target="http://www.nanoscience.gatech.edu/zlwang/paper/2008/08_nat_1.pdf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hyperlink" Target="http://www.nanoscience.gatech.edu/zlwang/paper/2008/08_nat_1.pdf" TargetMode="External"/><Relationship Id="rId4" Type="http://schemas.openxmlformats.org/officeDocument/2006/relationships/hyperlink" Target="http://www.nanoscience.gatech.edu/zlwang/paper/2008/08_nat_1.pdf" TargetMode="External"/><Relationship Id="rId5" Type="http://schemas.openxmlformats.org/officeDocument/2006/relationships/hyperlink" Target="http://www.nanoscience.gatech.edu/zlwang/paper/2008/08_nat_1.pdf" TargetMode="Externa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hyperlink" Target="http://www.nanoscience.gatech.edu/zlwang/paper/2008/08_nat_1.pdf" TargetMode="External"/><Relationship Id="rId4" Type="http://schemas.openxmlformats.org/officeDocument/2006/relationships/hyperlink" Target="http://www.nanoscience.gatech.edu/zlwang/paper/2008/08_nat_1.pdf" TargetMode="External"/><Relationship Id="rId5" Type="http://schemas.openxmlformats.org/officeDocument/2006/relationships/hyperlink" Target="http://www.nanoscience.gatech.edu/zlwang/paper/2008/08_nat_1.pdf" TargetMode="Externa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ergy Scaveng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A Look at Nano-fibers and Other Piezoelectric Devices for Body Area Network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"/>
          <p:cNvSpPr/>
          <p:nvPr/>
        </p:nvSpPr>
        <p:spPr>
          <a:xfrm>
            <a:off x="2914560" y="6067440"/>
            <a:ext cx="34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ed by Stuart Woo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ort Circuit and Open Circuit Measurements at 80rm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971800" y="1905120"/>
            <a:ext cx="4203720" cy="4647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600200" y="652140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ong Qin , Xudong Wang &amp; Zhong Lin Wang "Microfibre-nanowire hybrid structure for energy scavenging",  Nature, Volume 451, 14 February 2008 Page(s): 809 - 814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nge of Frequenci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676520" y="1676520"/>
            <a:ext cx="6324480" cy="4784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600200" y="640080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ong Qin , Xudong Wang &amp; Zhong Lin Wang "Microfibre-nanowire hybrid structure for energy scavenging",  Nature, Volume 451, 14 February 2008 Page(s): 809 - 814. (Supplement Figure 6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x Fib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666880" y="1371600"/>
            <a:ext cx="4484880" cy="5181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23880" y="652140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ong Qin , Xudong Wang &amp; Zhong Lin Wang "Microfibre-nanowire hybrid structure for energy scavenging",  Nature, Volume 451, 14 February 2008 Page(s): 809 - 814. (Figure 4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ability Case 1 (Cylindrical Fibers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133720" y="1828800"/>
            <a:ext cx="4876560" cy="2486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370880" y="4343400"/>
            <a:ext cx="385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=4nA x 3mV / .2s = 60p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 mW per 1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652140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ong Qin , Xudong Wang &amp; Zhong Lin Wang "Microfibre-nanowire hybrid structure for energy scavenging",  Nature, Volume 451, 14 February 2008 Page(s): 809 - 814. (Supplemen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ability Case 2 (Square Fibers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952880" y="2808360"/>
            <a:ext cx="3505320" cy="2232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23880" y="652140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ong Qin , Xudong Wang &amp; Zhong Lin Wang "Microfibre-nanowire hybrid structure for energy scavenging",  Nature, Volume 451, 14 February 2008 Page(s): 809 - 814. (Supplemen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00200" y="2057400"/>
            <a:ext cx="32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=4nA x 3mV / .2s = 60p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6 mW per 1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2133720"/>
            <a:ext cx="75438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ergy Generation using Piezo Fil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R H Brown, Atochem Sensors Ltd, 1991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ic Equ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harge Density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= Q/A =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Open Circuit Voltage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0 =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19080" y="6613560"/>
            <a:ext cx="653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 H Brown “Energy Generation using Piezo Film” published by Measurment Specialties original publish year 19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ergy Expec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Maximum Charge Density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mC/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Maximum Energy Expected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 kJ/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71360" y="6613560"/>
            <a:ext cx="653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 H Brown “Energy Generation using Piezo Film” published by Measurment Specialties original publish year 19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VDF (Polyvinylidene Fluoride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Generates energy through stress/strain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Kinetic Energy to Electrical Energy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pping Ball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ping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71360" y="6613560"/>
            <a:ext cx="653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 H Brown “Energy Generation using Piezo Film” published by Measurment Specialties original publish year 19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ic Measur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523880" y="1752480"/>
            <a:ext cx="3152880" cy="2103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295280" y="3809880"/>
            <a:ext cx="3403800" cy="2360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105520" y="3733920"/>
            <a:ext cx="3333600" cy="2301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5486400" y="1752480"/>
            <a:ext cx="2895480" cy="2086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071360" y="6613560"/>
            <a:ext cx="653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 H Brown “Energy Generation using Piezo Film” published by Measurment Specialties original publish year 19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haracteristics of Movement Scavenged Energy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Nano-Fiber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PVDF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Potential Implementation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Design consideration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tential Implemen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How can we incorporate these devices into our networks?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an they be more than good sensors?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ign Consider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What do you do when your not scavenging energy?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How do you retain your energy?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How would you control different energy modalities?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What are some of the requirements of movement generated energy?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Potent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crofibre–nanowire hybrid structure for energy scaveng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Yong Qin1, Xudong Wang1 &amp; Zhong Lin Wang1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ic Concep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Use vibrations and friction between two fibers to create an electric current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extile fibers are dense and have the potential of accumulating a lot of energy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"/>
          <p:cNvSpPr/>
          <p:nvPr/>
        </p:nvSpPr>
        <p:spPr>
          <a:xfrm>
            <a:off x="1735920" y="6324480"/>
            <a:ext cx="56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ong Qin , Xudong Wang &amp; Zhong Lin Wang 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"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icrofibre-nanowire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hybrid structure for energy scavenging"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ature, Volume 451, 14 February 2008 Page(s): 809 - 814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3505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bers are coated in a Zinc Oxide growth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952880" y="2093760"/>
            <a:ext cx="3505320" cy="3659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800600" y="5791320"/>
            <a:ext cx="4038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ong Qin , Xudong Wang &amp; Zhong Lin Wang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"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Microfibre-nanowire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hybrid structure for energy scavenging"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Nature, Volume 451, 14 February 2008 Page(s): 809 - 814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eptual Analogu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895480" y="1676520"/>
            <a:ext cx="3635640" cy="4876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95280" y="652140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ong Qin , Xudong Wang &amp; Zhong Lin Wang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"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Microfibre-nanowire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hybrid structure for energy scavenging"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Nature, Volume 451, 14 February 2008 Page(s): 809 - 814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V Curve of Coated Str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295280" y="2127240"/>
            <a:ext cx="7162920" cy="3592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00200" y="571500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ong Qin , Xudong Wang &amp; Zhong Lin Wang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"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Microfibre-nanowire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hybrid structure for energy scavenging"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Nature, Volume 451, 14 February 2008 Page(s): 809 - 814. (Supplement Figure 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V Curve of Bent Str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295280" y="2266920"/>
            <a:ext cx="7162920" cy="3314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600200" y="571500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ong Qin , Xudong Wang &amp; Zhong Lin Wang "Microfibre-nanowire hybrid structure for energy scavenging",  Nature, Volume 451, 14 February 2008 Page(s): 809 - 814. (Supplement Figure 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4724280"/>
            <a:ext cx="313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ode characteristics help insure same direction current for all nano-fi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19:00:52Z</dcterms:created>
  <dc:creator>David Robinson</dc:creator>
  <dc:description/>
  <dc:language>en-US</dc:language>
  <cp:lastModifiedBy>snw7f</cp:lastModifiedBy>
  <dcterms:modified xsi:type="dcterms:W3CDTF">2008-03-11T17:07:02Z</dcterms:modified>
  <cp:revision>13</cp:revision>
  <dc:subject/>
  <dc:title>PowerPoint Presentation</dc:title>
</cp:coreProperties>
</file>